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DF47-4F40-416F-8931-80AE9E68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445A-2884-4246-B6FB-9AA060FD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2E026-666B-42A1-A82C-23BFE544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DA4C2-B9CE-4A17-881C-A343D0C3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D6493-A0A7-4E2A-952C-6A18CB78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B978E-EF25-4822-9A74-B8FB34A3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9E9F7-AECE-460D-B0E3-CBE494CB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477C3-267E-4238-849D-9AFF3F06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225A5-624A-4994-BE85-35378C63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CA52F-5B4F-455F-B238-B7A6FEF6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9D104-CD9D-49EC-86BD-4D36C4ED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32CD9-A9D5-4CEB-8A43-E28E95E0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6829-4C57-4E30-87AA-2214F607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0865A-F2AF-4210-9DD0-96CEAFBE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7DE42-98D2-460C-89A1-012F16A8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30201-699E-4999-8A68-792B83A4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5F60C-D06B-458D-B236-5AF8A60B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CF5AF-593A-4FF0-8EF4-849C5543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BE47E-D910-4E3E-9285-AE93624F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FA497-6EB8-4E63-960D-F25CEDEA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43FF1-3851-4CF9-8531-ECEFE182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58C8B-83D7-425C-BE3F-3078490D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95C2E-D080-4459-B403-998A78FB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013-E8C9-4E8E-8CB4-FF6F691E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A54ED-E9EC-4A8A-9BD0-952CB4F5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4C7D3-FEB6-40A7-A2E6-98442489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07A3F-EB55-4BAE-8D22-5E033B86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EF48B-114B-4F90-913A-90FB80E5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1C174-9B4E-480E-A5F1-0AF40F7F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33BF0-FD76-40B8-9B21-EB73DE9E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F7F24-3A17-4D8C-8BEE-91AC92F4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C14A9-26AE-43A0-AD07-C7B02553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601B1-0C4D-4F20-A8DD-BFBABB23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AA298-2017-41FE-99BD-933A4A5F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9F8F-8CCB-4515-B4E8-7F2976F0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9484B-E578-41D1-867F-8DA60313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8681D-47F6-428F-9645-1198CE04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2D487-5DF1-4F82-BE54-E41E935C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7F480-6C9F-4102-A0E6-B860B67A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511D7-9EEA-4331-A3DC-AFD5EEA0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65102-F57B-4270-8EF2-3EBF3C8F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CDAD7-D070-4DEB-9660-F59D4B35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52D5C-27E5-423A-B16F-8319C0D2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E1A03-5C2D-4CB0-9789-FB66F0E4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FF63F-962C-4F9B-ACEC-F8B2759C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7247-9F84-450F-B6D2-1DE956B2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08558-85DC-47BA-9500-898DC1C8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D094F-9F6B-4A09-9B29-672AC12C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F565A-B222-4EC0-86CA-84AC777D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EC0B2-C812-42C2-A674-2954CE1B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4A476-E571-4DD2-AF99-49E786A5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3B14C-7D4F-4FBA-B571-4BFEB4E5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8FF7CF-1AC1-4377-B1D3-4AD461AA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6B5B4-E49F-491F-8E07-ECD62F80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91649-4B1E-4EB7-8BFD-87D5BDFF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1F0B7C-84D6-4C6E-AB4E-3A9CC1E4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8EC1-12CC-4C63-9147-1E464D65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E703C-6F89-43A6-9472-17B81967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04036C-F129-4F7B-A048-DFFB8692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8A2D0E-0FEA-4180-90B3-5FDADDB0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E57094-6645-409A-AD36-F65D4163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5EF55A-581F-4681-B9A7-CBAC1C20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3E5487-673A-4CA3-AF9A-4D07B745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A31513-EB9F-43CA-9638-82599CCF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C0E6C8-47DC-4411-A8FB-9E7AEC65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8064A2-60DD-4413-B8C5-795A9198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8238C8-5826-4AB1-84CC-6549E9CA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2475-7353-4F54-998C-382F18F3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BF7017-E65A-48C0-A5D8-641DF2BB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597B7D-C6E9-4E34-BC15-4B479851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6D1FB7-1278-4C45-894F-844A7778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D52083-4F45-411B-AC40-244E9E3B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5D9FE3-062C-4DF0-9425-BA29443B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293814-97EC-489E-94A4-2009CC80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63B203-4BC4-4A8F-B5BE-91B754AB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7CF912-A0CB-47B8-A698-C22B059E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7B4FF2-5CC2-4504-B3D6-EC0422BA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A92AE6-E715-45B1-92CC-AE301F3E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C37C-9869-4671-9459-1E87842D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A84F36-8E09-4E6F-B5B4-D26275EA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3A0071-691E-44CA-9B40-B7CD1278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765C53-D53B-406D-A980-CBC07B16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1EC0C1-CC94-4664-874A-8453EA31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B87059-CC7F-4BC1-8991-5E41EAC5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AA665B-76D7-4693-829B-98384BC1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C19837-5A3B-4184-B820-BDEE56C2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E1AEE6-DB92-4C3E-9650-FF1812A0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068A08-375A-443E-85B4-5841278E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A26C05-CC4A-49AD-9497-EBA7E281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D610-8E9A-4C4F-93BA-5D04351C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CABB55-7A3F-4701-B1B7-B3D1BBF1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D3D44E-FF5C-4F51-B103-F0BF0F9C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4F5D38-1C92-41E2-B612-4450DE14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950EA3-E5BE-46A8-8756-82567BDA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6FE010-A39C-45E4-9098-A3C7E16F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2C52CB-9FDA-42BA-891D-2C46F651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169558-EE72-4F83-BAB6-42990516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AF4A94-E900-4E85-A49C-15B8CA21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341423-2665-454E-95DD-16DC5682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ADE4F7-FEB6-401F-9B5F-970F487B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6D8F-6FC5-457E-8EF4-A312C2A7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D2AE2F-08BF-4521-9C28-D1843138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7B314D-F360-4789-9D66-DE3B2CFD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E9A8A6-B469-40D1-8FB1-1A4DDD9C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19D727-0151-4878-ACFC-AF970707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278A51-B5A5-42F1-8AC2-F3A133B5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FF23A1-F5C1-4678-A471-2B82951A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474DE8-09DC-4BE2-9362-FC324B48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3A87E8-9C65-4D17-9ABA-0631A87C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C1559A-4E20-4245-85F7-D519D8CE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D5A1DA-7CA4-420C-AB4B-58D176F9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B26D-F8EC-4B1D-A56E-32366A0D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7FCC-0441-4973-B7E0-EB0EC64A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F1F26C-4DD8-4385-8781-4489ADB2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1F8767-E366-400C-B744-D8D25E5C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536CE7-175C-4166-AE49-52D89A8E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819017-07FF-4CC1-8995-9BBD374B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8FD6D4-2FE9-4E5A-801B-C6900A4F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F4952A-BBC2-4553-A9D9-3ECB20A5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DAE823-EFBE-4E58-9FA8-DBE3CBBA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83BB04-02F9-4A26-B351-3A304983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7C5D26-AEF2-4571-8640-248FAA83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472EA5-0276-4F1D-87DB-5EDA1CCE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0FE6-6DB7-4291-8778-379C926F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73391A-B5FF-452E-8C1D-8F752E31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FC9435-BE09-4947-B4B9-D0E50350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8B878B-D51A-4BD5-BAC3-29833263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E72E60-4F73-41D3-A387-35C205F8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481C9D-F71C-4655-AF37-611A4FDD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0362BD-5CFF-4396-B3D7-8E4A5322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A2B2C9-78AD-42E2-AE28-BDC0D67B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7D2A1A-23F0-4015-AFCF-2DD9E7A1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60D09A-2C4E-4C02-B018-EC934099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BD42C8-1A31-408B-B8C3-F0010480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52F1-5E03-4681-A326-7870A339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2B32E8-5A34-4C18-8EF7-4E5D6B22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C330BD-55C5-4379-BA74-721F3117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9BF027-BCA4-49E5-AC01-F20B6922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73B716-8804-43B1-ACE9-A63EFB9F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128B8C-A350-4DB2-A52B-12768321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305B9B-B8CB-4CD0-9B86-CE50CB9F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018F99-8CD1-4584-AEC5-F02EB5C7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18C4FA-0B8D-4E8D-8ED2-A81D30EC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A82082-CAE9-4BBB-BB21-F325C778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8176E6-A7BB-4121-AA9C-DC29B18B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689E-1490-4638-A3AD-BE84FDA6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D137F1-CC7D-42CC-8F5F-5975A09A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3B9FAB-543C-4A53-A433-539138EB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5130CF-B54A-46E4-B7F8-13D31940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ECC904-6326-48B9-BF89-E7B6B866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418533-14B3-4FBF-8248-98B0E0AA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08C8F7-F07D-4EDE-830D-343F6E2F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3F2F9A-2372-4B40-B268-30ED5FF4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13999E-5F92-4336-A054-6E88D749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889F73-DBD0-4DDC-A350-6AB6C0C9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A3E463-4D1B-4B47-962A-97853023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B045-6E7A-4F3F-AE78-60FAD058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737F8E-055C-4FF9-B0C4-1D94338E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C44814-5259-4835-88BB-74B2F78F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768408-E22B-4921-A162-1AD9E733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0AB9CD-5FB6-4740-8EC5-C192997E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E83D57-8E73-4B43-B2F3-1FC8D018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99CECD-C076-40FA-BDA3-3AA7FA5B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560B9B-7124-4CF9-B3AA-3FC5CE27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959EC3-A95F-4C0F-B8BB-5F9C995A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D93427-9BFB-4B48-869D-4FE8068E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9631B9-CA58-4736-8DDD-3D4F894B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B87F7-582C-4C97-B4B3-80A73954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3B33E4-9139-451D-9EC5-D6D4F7BF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2843D2-D03F-4314-8269-AFA276FD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656A41-3E76-42D9-9F3E-FBAA35D0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407D9-854A-4C86-9866-02C70F3D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DAC0D-3EF8-4EA1-8EE5-BA96F704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AC195-200B-40AB-A14D-948D22C3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C8CCA-64DA-4643-94FE-403BA0DC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EF7B-7184-4B8C-8AA6-97834C6C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F6479-E1A0-4378-8025-EAC910E4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ECAEA-D8B0-47E8-BD0C-F83901F5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316FE-9C21-40AF-8D9B-2268A9F4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800F3-1D6E-4FEE-A1CA-90DBD6A4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8128B-F335-4D89-9FB1-9439DF82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2F8AC-A5DD-46F9-99ED-67C8C64B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A215F-05E1-4EB6-903E-382C5546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27C73-3AE8-4B27-8EBC-B4FB1188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1DA22-7EEB-4985-9C54-E2C527FA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F4743-CF5F-41D4-807B-814331A9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4DE-8209-4405-85D6-5897FAD7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DCD28-92B2-46B7-A46F-55F448BF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F0622-AC4D-41A9-A8E4-08095CE9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571E3-F6E1-4232-B8F3-7EF7E814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6AA97-8998-4963-96B8-8EC02B06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B922A-286B-4FA9-A730-DF2FC935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B5B23-9093-4283-AECA-BAC814ED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3EF53-5794-4B83-9C50-A5009B3B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A9842-44D5-462F-82C7-4C3CC8B2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EE062-932E-4906-84A9-5F16EEA7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FEE0D-A27A-411B-A0DE-8E257C83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24C3-6536-48B4-AB25-EE5F00CD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8DA67-31AA-4057-9047-11AC60F7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10129-5198-40E6-970D-87AAFEBD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5BF13-A0D5-41C0-AB3D-AB112395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01276-10A6-400E-9AE5-5CF0ED13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36089-DF60-4331-9C9A-46FA7DDE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66AB8-BB54-475B-B987-1B9DA4B0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CF61F-C64A-4871-A719-3CF9AC04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2EABE-80A0-46A7-AD03-0E72F24F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E6DF5-B95D-46E9-BC3C-446F3B05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D2A64-36C3-418C-8C1F-1826A3BF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DD3A-E9B3-40D9-8330-2A7E443D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C40E9-5517-4B91-B92D-E29386F9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62652-1B1B-4795-B4D3-9EDC7F7B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FCA6A-4EAA-4E37-9280-FBA94EBF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4A3F1-DA49-44AF-B756-8F8A645A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2773A-0294-4911-8095-3075E175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77D5E-0F1B-4696-B0E4-7C133560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FAEEF-2CC5-4E0C-8886-5C350C93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999DC-B6AE-4517-A23D-7B682467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82396-C01A-4183-9E38-883DB27E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B6165-23D4-4CF0-B740-34DA32F6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E72-C54E-41E6-A0DD-A13D7D1F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3817B-27AF-4281-98D1-CF1659D0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AED21-129B-45F0-B0F6-F42612A5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39678-4329-45B4-BDBA-259A7478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26390-0657-4B53-9200-63581964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E93B1-131E-4C8E-B442-4451999D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B2C3D-C9C8-4F5D-B4C9-B53E978A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98147-C164-4E61-B1B1-92953CA6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FF2A3-5168-47FF-89AD-0D3237FE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A5F16-FF7E-452C-B580-84AAAE99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02F93-9DCD-4FF1-9918-0629F64E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5AEF-6BFE-417F-972D-60D85170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9CA75-4A73-4595-9BAF-7B2B80EE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161B9-4E89-4C18-AFA3-C3DC49F2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B81CD-AEC7-480C-9123-75F84F12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1CDE4-B6F0-4EF1-9AAC-3509C9B8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75E5B-22D3-4E22-A482-299C67F6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961F9-149E-4A1B-98C0-2CC47B1D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C8EB4-5B72-4D47-9004-39E41707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64361-65E6-41DA-B5E2-A09C93FA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BA815-D9BD-49E8-9CB8-E4ECAA78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EDF70-16B9-4BA8-B5B1-986175A2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FD6F-EE19-4DF9-B799-9AB378ED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7E56A-22EF-4A2B-ADE5-01625564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970CF-5AD8-4477-AA65-2DF2269E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C558B-6335-462B-AA6F-AA23585E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76319-E910-4E1A-ABEE-174A3904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2C4D8-20D4-443D-90A1-927AFED7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1324C-4087-45F7-9C33-07877467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123B6-5108-4227-AACC-1F4C88D4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E762A-1AB0-4C2E-A0B7-30ECC332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69380-A38A-4A2D-BAF1-6367E3D1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F6A43-5830-46AC-8786-C72C009B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A088-7F51-4F7F-AE08-3F358A1627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4F83-73F2-4BCF-AF79-5BB075C32A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2823-E2B3-4C21-8EC2-24C639DF6C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0E64-3D1A-454D-9B5C-04467F4ABB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14BF-9CD4-4BD1-B5DB-2E5092C074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B5A8-2F57-497C-A9FE-2F7A4854AD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221C-421B-4710-BE97-9859948C2A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69AD-3C50-4812-AB49-CA11BDE223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4576-F02D-40B4-A3F3-83780B0B41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9410-F988-49FD-91DF-50FA828053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17CD-FF5C-454B-97CB-FAC256CC4B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8BDB-A2F6-42ED-A9AB-F2436D1FC7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7CD0-33CC-4422-AA0D-2918133BD5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5C2C-5B25-4114-9AC3-75DE956788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A93D-90CE-441D-971B-E9BDD630C5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F13F-0115-4FD5-9744-AE36BC12CD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30B8-FEB7-4F62-B3C0-8E8FC0AF1C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21F9-5E3A-4C51-BC13-EF46122DB1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FAC6-8A3E-4830-A8A5-FFC48E0ACF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DE46-1234-4072-8289-C2C5BA2852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7A50-F4C7-41D2-BD62-174D61D52D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7542-013B-4C27-B3FB-3B57B558AD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8B8F-8977-42D0-BB32-2E0217AB40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A455-223C-4310-A5BC-A488D73950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3E8F-2600-4A5D-A4F7-320124D29A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5D79-2423-4120-A18B-F63DA746F2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B364-D0DA-4006-9DB4-E560F8DC97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1F65-CB3C-44F5-8CBD-BDD9A74BBF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69EF-25C9-4C1D-AB0F-556ACFAF88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DE82-7463-4A91-819D-DEC6B238F5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B00D-FE55-433D-80AD-014FDC31E4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CBD0-5C21-4C83-8E08-04255553C4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F3EB-19D4-44F1-95D9-454766FD27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4D0B-AFA0-45D9-A6AC-78FB9F2E99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3591-E689-412E-8E59-38C42F646F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B6E6-B8BF-4F52-99EA-7E2B296652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2AEA-87D0-4E55-BBAB-3CFD9EC79E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2930-6357-4DC5-BCC3-1B9A2CD21F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ABCE-9C36-40F5-8C92-5458133E15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8B3C-1F31-4EE9-B2EF-2265F91A5F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004760" y="2705040"/>
            <a:ext cx="7134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71360" y="1271520"/>
            <a:ext cx="8801280" cy="4314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476360" y="278136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619280" y="314172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1609560" y="351000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408560" y="2781360"/>
            <a:ext cx="35856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510080" y="314172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500720" y="3510000"/>
            <a:ext cx="35856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7308720" y="274320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7442280" y="3141720"/>
            <a:ext cx="35856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7442280" y="3510000"/>
            <a:ext cx="35856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1638360" y="4508640"/>
            <a:ext cx="35856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2997360" y="4508640"/>
            <a:ext cx="35856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6075360" y="450864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7667640" y="450864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1619280" y="491328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3222720" y="4888080"/>
            <a:ext cx="35856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6021360" y="488808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7667640" y="487836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1628640" y="5281560"/>
            <a:ext cx="358920" cy="257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2987640" y="530064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6040440" y="527220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2"/>
          <a:stretch/>
        </p:blipFill>
        <p:spPr>
          <a:xfrm>
            <a:off x="7389720" y="5281560"/>
            <a:ext cx="35892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9410" descr=""/>
          <p:cNvPicPr/>
          <p:nvPr/>
        </p:nvPicPr>
        <p:blipFill>
          <a:blip r:embed="rId1"/>
          <a:stretch/>
        </p:blipFill>
        <p:spPr>
          <a:xfrm>
            <a:off x="500040" y="2719440"/>
            <a:ext cx="8143920" cy="14191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1514520" y="3284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3625920" y="3284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5599080" y="32846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7721640" y="3284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1889280" y="3789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3986280" y="3789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8"/>
          <a:stretch/>
        </p:blipFill>
        <p:spPr>
          <a:xfrm>
            <a:off x="5734080" y="3789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9"/>
          <a:stretch/>
        </p:blipFill>
        <p:spPr>
          <a:xfrm>
            <a:off x="8215200" y="3789360"/>
            <a:ext cx="2890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8373" descr=""/>
          <p:cNvPicPr/>
          <p:nvPr/>
        </p:nvPicPr>
        <p:blipFill>
          <a:blip r:embed="rId1"/>
          <a:stretch/>
        </p:blipFill>
        <p:spPr>
          <a:xfrm>
            <a:off x="157320" y="880920"/>
            <a:ext cx="8829360" cy="55724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755640" y="2871720"/>
            <a:ext cx="863640" cy="2574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2195640" y="2871720"/>
            <a:ext cx="863640" cy="2574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3564000" y="2871720"/>
            <a:ext cx="863640" cy="2574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4932360" y="2871720"/>
            <a:ext cx="863640" cy="2574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6"/>
          <a:stretch/>
        </p:blipFill>
        <p:spPr>
          <a:xfrm>
            <a:off x="6227640" y="2871720"/>
            <a:ext cx="863640" cy="2574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7"/>
          <a:stretch/>
        </p:blipFill>
        <p:spPr>
          <a:xfrm>
            <a:off x="684360" y="4124160"/>
            <a:ext cx="2808000" cy="2574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8"/>
          <a:stretch/>
        </p:blipFill>
        <p:spPr>
          <a:xfrm>
            <a:off x="684360" y="4508640"/>
            <a:ext cx="2808000" cy="2570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9"/>
          <a:stretch/>
        </p:blipFill>
        <p:spPr>
          <a:xfrm>
            <a:off x="684360" y="5656320"/>
            <a:ext cx="3600360" cy="2570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0"/>
          <a:stretch/>
        </p:blipFill>
        <p:spPr>
          <a:xfrm>
            <a:off x="684360" y="6040440"/>
            <a:ext cx="3600360" cy="257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11"/>
          <a:stretch/>
        </p:blipFill>
        <p:spPr>
          <a:xfrm>
            <a:off x="8494560" y="31226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12"/>
          <a:stretch/>
        </p:blipFill>
        <p:spPr>
          <a:xfrm>
            <a:off x="8504280" y="35002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3"/>
          <a:stretch/>
        </p:blipFill>
        <p:spPr>
          <a:xfrm>
            <a:off x="8494560" y="393372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4"/>
          <a:stretch/>
        </p:blipFill>
        <p:spPr>
          <a:xfrm>
            <a:off x="8504280" y="43657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5"/>
          <a:stretch/>
        </p:blipFill>
        <p:spPr>
          <a:xfrm>
            <a:off x="8485200" y="4743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6"/>
          <a:stretch/>
        </p:blipFill>
        <p:spPr>
          <a:xfrm>
            <a:off x="8504280" y="515772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7"/>
          <a:stretch/>
        </p:blipFill>
        <p:spPr>
          <a:xfrm>
            <a:off x="8494560" y="56023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8"/>
          <a:stretch/>
        </p:blipFill>
        <p:spPr>
          <a:xfrm>
            <a:off x="8494560" y="5987880"/>
            <a:ext cx="2890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39:15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